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AB1FD-0FB3-4585-9333-548B1D87860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Στην αξιολόγησή μας θα πρέπει να ξεκινήσουμε αναγνωρίζοντας τα πλεονεκτήματα του προεδρικού συστήματος:</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800" spc="-1" strike="noStrike">
                <a:solidFill>
                  <a:srgbClr val="000000"/>
                </a:solidFill>
                <a:latin typeface="Arial"/>
              </a:rPr>
              <a:t>Η δεδομένη διάρκεια της θητείας του προέδρου εξασφαλίζει τη συνέχεια της εκτελεστικής εξουσίας, αποτρέποντας την τακτική κατάρρευση των κυβερνητικών συνασπισμών στην οποία είναι επιρρεπείς οι κοινοβουλευτικές κυβερνήσεις.</a:t>
            </a:r>
            <a:endParaRPr b="0" lang="en-US" sz="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0" lang="el-GR" sz="1200" spc="-1" strike="noStrike">
                <a:solidFill>
                  <a:srgbClr val="000000"/>
                </a:solidFill>
                <a:latin typeface="Arial"/>
              </a:rPr>
              <a:t>Για να κερδίσουν την προεδρική εκλογή, οι υποψήφιοι οφείλουν να αναπτύξουν ευρεία δίκτυα υποστήριξης σε ολόκληρη την επικράτει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Έχοντας εκλεγεί από το σύνολο της χώρας, ο πρόεδρος μπορεί στη συνέχεια να επιδιώξει το συλλογικό εθνικό συμφέρον, κινούμενος πάνω από τις αψιμαχίες των μειοψηφικών κοινοβουλευτικών κομμάτων.</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Ο πρόεδρος αποτελεί φυσικό σύμβολο της εθνικής ενότητας και αποτελεί οικείο πρόσωπο τόσο στο εσωτερικό της χώρας όσο και στη διεθνή κοινότητ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Από τη στιγμή που το προεδρικό σύστημα προϋποθέτει τη διάκριση των εξουσιών, θεωρητικά η υιοθέτησή του συνοδεύεται από το περιορισμένο κράτος και την προστασία των ατομικών ελευθεριών.</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54D87-0CAF-4218-947A-A90761948F8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Ωστόσο, το προεδρικό σύστημα συνοδεύεται και από εγγενείς κινδύνου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ροεδρία καταλήγει σε ένα και μόνο κόμμα - όλοι οι άλλοι είναι ηττημένοι.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Η πολιτική τού όλα ή τίποτα μπορεί να οδηγήσει στην πολιτική αστάθεια, ιδίως σε ένα νέο καθεστώς που δεν διαθέτει ακόμα το στοιχείο της πολιτικής εμπιστοσύνη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Ελλοχεύει επίσης ο κίνδυνος οι πρόεδροι να επιχειρήσουν να υπερβούν τα όρια του ρόλου του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Πέραν τούτου, οι προεδρικές δημοκρατίες είναι πιο επιρρεπείς στην κατάρρευση από τις κοινοβουλευτικές </a:t>
            </a:r>
            <a:endParaRPr b="0" lang="en-US" sz="1200" spc="-1" strike="noStrike">
              <a:solidFill>
                <a:srgbClr val="000000"/>
              </a:solidFill>
              <a:latin typeface="Arial"/>
            </a:endParaRPr>
          </a:p>
        </p:txBody>
      </p:sp>
      <p:sp>
        <p:nvSpPr>
          <p:cNvPr id="18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C2141-14FF-423F-B971-92BCFC25F3B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0" lang="el-GR" sz="800" spc="-1" strike="noStrike">
                <a:solidFill>
                  <a:srgbClr val="000000"/>
                </a:solidFill>
                <a:latin typeface="Arial"/>
              </a:rPr>
              <a:t>Στο κοινοβουλευτικό σύστημα:</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Τα κυβερνώντα κόμματα προέρχονται από το κοινοβούλιο και μπορούν να χάσουν την εξουσία εάν υπερψηφιστεί πρόταση δυσπιστίας</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Η κυβέρνηση λειτουργεί συλλογικά μέσω ενός υπουργικού συμβουλίου, στο οποίο παραδοσιακά ο πρωθυπουργός ή ο καγκελάριος είναι πρώτος μεταξύ ίσων. Το υπουργικό συμβούλιο διαθέτει συνήθως είκοσι μέλη, ενώ σε μεγαλύτερες κυβερνήσεις δεν έχουν θέση σε αυτό όλοι οι υπουργοί</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Κατά κανόνα, το αξίωμα του πρωθυπουργού είναι διακριτό από το εθιμοτυπικό αξίωμα του αρχηγού του κράτους</a:t>
            </a:r>
            <a:endParaRPr b="0" lang="en-US" sz="800" spc="-1" strike="noStrike">
              <a:solidFill>
                <a:srgbClr val="000000"/>
              </a:solidFill>
              <a:latin typeface="Arial"/>
            </a:endParaRPr>
          </a:p>
        </p:txBody>
      </p:sp>
      <p:sp>
        <p:nvSpPr>
          <p:cNvPr id="19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F5F17-57DF-47DD-966D-375542B4AB6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Ενώ στο προεδρικό σύστημα οι πρόεδροι έχουν διακριτό ρόλο και εκλέγονται ξεχωριστά από το κοινοβούλιο, στο κοινοβουλευτικό σύστημα η εκτελεστική εξουσία συνδέεται οργανικά με τη νομοθετική.</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05C55-CFE2-437E-A46A-3953A03F6B5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να από τα χαρακτηριστικά γνωρίσματα του κοινοβουλευτικού συστήματος είναι, σύμφωνα με την κλασική ανάλυση του Bagehot (1867), η διάκριση ανάμεσα στο ουσιαστικό και το εθιμοτυπικό στοιχείο της διακυβέρνησης. Ενώ στα προεδρικά συστήματα ο αρχηγός του κράτους είναι ταυτόχρονα και επικεφαλής της κυβέρνησης, στον κοινοβουλευτισμό οι ρόλοι είναι διακριτοί. Η ουσιαστική πτυχή της ηγεσίας της χώρας βασίζεται στον πρωθυπουργό, ενώ το μεγαλοπρεπές ή εθιμοτυπικό στοιχείο της ηγεσίας επαφίεται στον αρχηγό του κράτους. </a:t>
            </a:r>
            <a:endParaRPr b="0" lang="en-US" sz="1200" spc="-1" strike="noStrike">
              <a:solidFill>
                <a:srgbClr val="000000"/>
              </a:solidFill>
              <a:latin typeface="Arial"/>
            </a:endParaRPr>
          </a:p>
        </p:txBody>
      </p:sp>
      <p:sp>
        <p:nvSpPr>
          <p:cNvPr id="19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01522-780B-4D27-97C2-DDCAD2901D0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Το ημιπροεδρικό σύστημα (semi-presidential government), που ονομάζεται ορισμένες φορές και δικέφαλη εκτελεστική εξουσία (dual executive), συνδυάζει το αξίωμα του αιρετού και κατόχου πολιτικών εξουσιών προέδρου με έναν πρωθυπουργό ο οποίος ηγείται του υπουργικού συμβουλίου και λογοδοτεί στο κοινοβούλιο. Ο πρωθυπουργός, τον οποίο διορίζει συνήθως ο πρόεδρος, είναι υπεύθυνος για τις καθημερινές εσωτερικές λειτουργίες της κυβέρνησης, ενώ ο πρόεδρος έχει εποπτικό ρόλο, διατηρώντας παράλληλα την ευθύνη για τις εξωτερικές υποθέσεις. Συνήθως, ο πρόεδρος έχει επίσης τη δυνατότητα να αναλαμβάνει έκτακτες εξουσίες.</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03ABB-8A40-4344-9EDF-44365924387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0" lang="el-GR" sz="800" spc="-1" strike="noStrike">
                <a:solidFill>
                  <a:srgbClr val="000000"/>
                </a:solidFill>
                <a:latin typeface="Arial"/>
              </a:rPr>
              <a:t>Η εκτελεστική εξουσία (political executive) αποτελεί το κορυφαίο επίπεδο των κυβερνητικών θεσμών. Κατευθύνει τις υποθέσεις του έθνους, επιβλέπει την υλοποίηση των πολιτικών, κινητοποιεί τη λαϊκή υποστήριξη και ηγείται της χώρας σε περιόδους κρίσεων.</a:t>
            </a:r>
            <a:endParaRPr b="0" lang="en-US" sz="800" spc="-1" strike="noStrike">
              <a:solidFill>
                <a:srgbClr val="000000"/>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6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0EEFA-F3C4-4A92-AAFC-BCFD9F8FF38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ροεδρικό και το κοινοβουλευτικό σύστημα αποτελούν τα δύο γνήσια μοντέλα οργάνωσης της εκτελεστικής εξουσίας. Ο ημιπροεδρισμός αντλεί στοιχεία και από τα δύο συστήματα, δημιουργώντας ένα νέο σύστημα με τα δικά του χαρακτηριστικά. Συγκεκριμένα, το ημιπροεδρικό σύστημα συνδυάζει το αιρετό αξίωμα του προέδρου με την ύπαρξη ενός πρωθυπουργού και ενός υπουργικού συμβουλίου που λογοδοτούν στο κοινοβούλι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86310-5898-4D50-A966-6A045FC3B3B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ς συγκατοίκηση (</a:t>
            </a:r>
            <a:r>
              <a:rPr b="0" lang="en-US" sz="1200" spc="-1" strike="noStrike">
                <a:solidFill>
                  <a:srgbClr val="000000"/>
                </a:solidFill>
                <a:latin typeface="Arial"/>
              </a:rPr>
              <a:t>cohabitation) </a:t>
            </a:r>
            <a:r>
              <a:rPr b="0" lang="el-GR" sz="1200" spc="-1" strike="noStrike">
                <a:solidFill>
                  <a:srgbClr val="000000"/>
                </a:solidFill>
                <a:latin typeface="Arial"/>
              </a:rPr>
              <a:t>νοείται, στο πλαίσιο ενός ημιπροεδρικού συστήματος, η διαφορετική κομματική προέλευση του προέδρου και του πρωθυπουργού. Η συγκατοίκηση επιτείνει τον ανταγωνισμό ανάμεσα στα δύο αξιώματα, ενώ υποχρεώνει τον πρόεδρο να ηγείται τόσο του έθνους όσο και της αντιπολίτευ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F1CD6-366C-4379-B907-A56A37462D7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Όπως θα αναμέναμε από έναν οργανισμό που έχει τη μορφή συνομοσπονδίας, η εκτελεστική εξουσία της ΕΕ βασίζεται σε μια ισορροπία ανάμεσα σε υπερεθνικές και διακυβερνητικές δυνάμει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Ο σημαντικότερος φορέας της εκτελεστικής εξουσίας στην ΕΕ, η Ευρωπαϊκή Επιτροπή, εκπροσωπεί το κοινό ευρωπαϊκό συμφέρον. Ωστόσο, το Συμβούλιο της Ευρωπαϊκής Ένωσης (που ονομάζεται επίσης Συμβούλιο Υπουργών) εκπροσωπεί τα κράτη-μέλη και παίζει όλο και πιο σημαντικό ρόλο στην κοινοτική νομοθεσία και τη χάραξη της κοινοτικής πολιτική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ίναι αυτό το μείγμα υπερεθνικών (Επιτροπή) και διακυβερνητικών (Συμβούλιο) συστατικών που δίνει στην εκτελεστική εξουσία της ΕΕ την ξεχωριστή της γεύση.</a:t>
            </a:r>
            <a:endParaRPr b="0" lang="en-US" sz="1200" spc="-1" strike="noStrike">
              <a:solidFill>
                <a:srgbClr val="000000"/>
              </a:solidFill>
              <a:latin typeface="Arial"/>
            </a:endParaRPr>
          </a:p>
        </p:txBody>
      </p:sp>
      <p:sp>
        <p:nvSpPr>
          <p:cNvPr id="20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697BB-DAE3-4D3C-87E4-1FE58F445F3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χοντας ως αποστολή την προώθηση του γενικού συμφέροντος της Ευρωπαϊκής Ένωσης, η Κομισιόν διαθέτει σημαντικές εξουσίες. Επιτελεί το ρόλο της με τους εξής τρόπους:</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Ενεργεί, από κοινού με το Ευρωπαϊκό Δικαστήριο, ως θεματοφύλακας των συνθηκών.</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Έχει το αποκλειστικό δικαίωμα πρωτοβουλίας, δηλαδή είναι η μόνη υπεύθυνη για την εκπόνηση προτάσεων νέας ευρωπαϊκής νομοθεσίας.</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Διαχειρίζεται και εκτελεί τον κοινοτικό προϋπολογισμό.</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Εξασφαλίζει την ορθή εφαρμογή της κοινοτικής πολιτικής από τα κράτη-μέλη και τις ευρωπαϊκές υπηρεσίες.</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Εκπροσωπεί την ΕΕ στη διεθνή σκηνή.</a:t>
            </a:r>
            <a:endParaRPr b="0" lang="en-US" sz="800" spc="-1" strike="noStrike">
              <a:solidFill>
                <a:srgbClr val="000000"/>
              </a:solidFill>
              <a:latin typeface="Arial"/>
            </a:endParaRPr>
          </a:p>
        </p:txBody>
      </p:sp>
      <p:sp>
        <p:nvSpPr>
          <p:cNvPr id="21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4A684-A5BC-4D8C-B002-F3DDD92C972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Οι αρμοδιότητες του Συμβουλίου είναι:</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Να θεσπίζει νομοθεσία, συνήθως σε συνεργασία με το Ευρωπαϊκό Κοινοβούλιο.</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Να συντονίζει τη γενική οικονομική πολιτική των κρατών-μελών.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Να συνομολογεί διεθνείς συμφωνίε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Να εγκρίνει τον κοινοτικό προϋπολογισμό από κοινού με το ΕΚ.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Να υλοποιεί την εξωτερική πολιτική και την πολιτική ασφάλειας της ΕΕ.</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Να συντονίζει τη δράση των κρατών-μελών στο πλαίσιο της δικαστικής και αστυνομικής συνεργασίας σε ποινικές υποθέσεις διασυνοριακού χαρακτήρα.</a:t>
            </a:r>
            <a:endParaRPr b="0" lang="en-US" sz="1200" spc="-1" strike="noStrike">
              <a:solidFill>
                <a:srgbClr val="000000"/>
              </a:solidFill>
              <a:latin typeface="Arial"/>
            </a:endParaRPr>
          </a:p>
        </p:txBody>
      </p:sp>
      <p:sp>
        <p:nvSpPr>
          <p:cNvPr id="21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4A896-236D-4304-90D4-DEA3B063FF7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α απολυταρχικά κράτη, οι θεσμικές δομές του κράτους -η εκτελεστική, η νομοθετική και η δικαστική εξουσία- δεν είναι αναπτυγμένες όσο στις δημοκρατίε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πορεί το ύπατο αξίωμα να είναι η προεδρία (όπως συμβαίνει σε πολλά πολιτικά καθεστώτα) ή κάποιο κυβερνητικό συμβούλιο (όπως στην περίπτωση πολλών στρατιωτικών καθεστώτων), όμως το κύριο γνώρισμα της απολυταρχικής πολιτικής εξουσίας είναι ο μη θεσμοθετημένος χαρακτήρας τη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ηγέτης επιδιώκει τη συγκέντρωση της εξουσίας στον ίδιο και τους υποστηρικτές, και όχι την κατανομή της στους διάφορους θεσμού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Οι πολιτικές σκοπιμότητες παίρνουν προτεραιότητα έναντι της διακυβέρνησης, ενώ η προσωπικότητα των κρατικών αξιωματούχων μετράει περισσότερο από τους ίδιους τους θεσμούς: υπάρχει πανδαισία προέδρων αλλά παντελής απουσία προεδρικών συστημάτων.</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9D053-BD6A-4704-816D-23FB441DBE1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Ως προσωπική εξουσία (personal rule) ορίζουν οι Jackson και Rosberg κάθε «σύστημα σχέσεων που συνδέει τους ηγέτες όχι με το </a:t>
            </a:r>
            <a:r>
              <a:rPr b="0" lang="en-US" sz="800" spc="-1" strike="noStrike">
                <a:solidFill>
                  <a:srgbClr val="000000"/>
                </a:solidFill>
                <a:latin typeface="Arial"/>
              </a:rPr>
              <a:t>“</a:t>
            </a:r>
            <a:r>
              <a:rPr b="0" lang="el-GR" sz="800" spc="-1" strike="noStrike">
                <a:solidFill>
                  <a:srgbClr val="000000"/>
                </a:solidFill>
                <a:latin typeface="Arial"/>
              </a:rPr>
              <a:t>κοινό</a:t>
            </a:r>
            <a:r>
              <a:rPr b="0" lang="en-US" sz="800" spc="-1" strike="noStrike">
                <a:solidFill>
                  <a:srgbClr val="000000"/>
                </a:solidFill>
                <a:latin typeface="Arial"/>
              </a:rPr>
              <a:t>”</a:t>
            </a:r>
            <a:r>
              <a:rPr b="0" lang="el-GR" sz="800" spc="-1" strike="noStrike">
                <a:solidFill>
                  <a:srgbClr val="000000"/>
                </a:solidFill>
                <a:latin typeface="Arial"/>
              </a:rPr>
              <a:t> ή έστω με τους αρχομένους, αλλά με τους πάτρωνες, τους συνεργάτες, τους πελάτες και τους αντιπάλους που συγκροτούν από κοινού το </a:t>
            </a:r>
            <a:r>
              <a:rPr b="0" lang="en-US" sz="800" spc="-1" strike="noStrike">
                <a:solidFill>
                  <a:srgbClr val="000000"/>
                </a:solidFill>
                <a:latin typeface="Arial"/>
              </a:rPr>
              <a:t>“</a:t>
            </a:r>
            <a:r>
              <a:rPr b="0" lang="el-GR" sz="800" spc="-1" strike="noStrike">
                <a:solidFill>
                  <a:srgbClr val="000000"/>
                </a:solidFill>
                <a:latin typeface="Arial"/>
              </a:rPr>
              <a:t>σύστημα</a:t>
            </a:r>
            <a:r>
              <a:rPr b="0" lang="en-US" sz="800" spc="-1" strike="noStrike">
                <a:solidFill>
                  <a:srgbClr val="000000"/>
                </a:solidFill>
                <a:latin typeface="Arial"/>
              </a:rPr>
              <a:t>”</a:t>
            </a:r>
            <a:r>
              <a:rPr b="0" lang="el-GR" sz="800" spc="-1" strike="noStrike">
                <a:solidFill>
                  <a:srgbClr val="000000"/>
                </a:solidFill>
                <a:latin typeface="Arial"/>
              </a:rPr>
              <a:t>.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Το σύστημα δεν </a:t>
            </a:r>
            <a:r>
              <a:rPr b="0" lang="en-US" sz="800" spc="-1" strike="noStrike">
                <a:solidFill>
                  <a:srgbClr val="000000"/>
                </a:solidFill>
                <a:latin typeface="Arial"/>
              </a:rPr>
              <a:t>“</a:t>
            </a:r>
            <a:r>
              <a:rPr b="0" lang="el-GR" sz="800" spc="-1" strike="noStrike">
                <a:solidFill>
                  <a:srgbClr val="000000"/>
                </a:solidFill>
                <a:latin typeface="Arial"/>
              </a:rPr>
              <a:t>οικοδομείται</a:t>
            </a:r>
            <a:r>
              <a:rPr b="0" lang="en-US" sz="800" spc="-1" strike="noStrike">
                <a:solidFill>
                  <a:srgbClr val="000000"/>
                </a:solidFill>
                <a:latin typeface="Arial"/>
              </a:rPr>
              <a:t>”</a:t>
            </a:r>
            <a:r>
              <a:rPr b="0" lang="el-GR" sz="800" spc="-1" strike="noStrike">
                <a:solidFill>
                  <a:srgbClr val="000000"/>
                </a:solidFill>
                <a:latin typeface="Arial"/>
              </a:rPr>
              <a:t> με βάση τους θεσμούς, αλλά τους ίδιους τους πολιτικούς. Η καίρια αδυναμία του έχει να κάνει ακριβώς με το γεγονός ότι είναι εν τέλει εξαρτημένο από τα πρόσωπα και όχι από τους θεσμούς».</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91C04-BEE5-40F4-80EF-AA2E5025DDE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ανελεύθερες δημοκρατίες ισχύει κατά κανόνα το προεδρικό, και όχι το κοινοβουλευτικό σύστημα. Σε αντίθεση με τον κοινοβουλευτισμό, όπου ο πρωθυπουργός θεωρείται παραδοσιακά ως πρώτος μεταξύ ίσων, το προεδρικό σύστημα προσφέρει ένα φυσικό πεδίο δράσης σε ηγέτες που θέλουν να βρίσκονται μακριά -και πάνω- από όλους τους άλλου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μια ανελεύθερη δημοκρατία, ο πρόεδρος ενεργεί χωρίς να περιορίζεται από το πλήρες οπλοστάσιο συνταγματικών περιορισμών που θέτει όρια στον επικεφαλής της εκτελεστικής εξουσίας σε μια φιλελεύθερη δημοκρατία.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Ο πρόεδρος εκμεταλλεύεται το γεγονός της απευθείας εκλογής του από το λαό και τον ισχυρισμό ότι ενεργεί υπηρετώντας το μακροπρόθεσμο συμφέρον του έθνους, για να επισκιάσει ανταγωνιστικούς θεσμούς όπως τα δικαστήρια και το κοινοβούλιο, χωρίς, ωστόσο, να υποβιβάζει τους θεσμούς αυτούς σε συμβολικές μόνον οντότητες. Διαπιστώνουμε δηλαδή, για μία ακόμη φορά, μια μορφή προσωπικής εξουσίας.</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BB397-107E-4384-83AF-71E56E8D370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Η κάθετη λογοδοσία (vertical accountability) υφίσταται όταν ο δρων σε ένα επίπεδο εποπτεύεται ή μπορεί να υποστεί κυρώσεις από κάποιο δρώντα που βρίσκεται σε άλλο επίπεδο. Σχετικό παράδειγμα είναι ο πρόεδρος που καλείται περιοδικά να διεκδικεί την επανεκλογή του.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0" lang="el-GR" sz="800" spc="-1" strike="noStrike">
                <a:solidFill>
                  <a:srgbClr val="000000"/>
                </a:solidFill>
                <a:latin typeface="Arial"/>
              </a:rPr>
              <a:t>Η οριζόντια λογοδοσία (horizontal accountability) υφίσταται όταν η εποπτεία λειτουργεί στο ίδιο επίπεδο. Σχετικό παράδειγμα είναι ο δικαστικός έλεγχος των ενεργειών ενός προέδρου.</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2E9B3-AAD8-4895-9743-3CF1AD3BF8E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φιλελεύθερες δημοκρατίες, η εκτελεστική εξουσία μπορεί να διακριθεί σε τρεις κατηγορίες: την προεδρική, την κοινοβουλευτική και την ημιπροεδρική. </a:t>
            </a:r>
            <a:endParaRPr b="0" lang="en-US" sz="1200" spc="-1" strike="noStrike">
              <a:solidFill>
                <a:srgbClr val="000000"/>
              </a:solidFill>
              <a:latin typeface="Arial"/>
            </a:endParaRPr>
          </a:p>
        </p:txBody>
      </p:sp>
      <p:sp>
        <p:nvSpPr>
          <p:cNvPr id="17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FA242-2EBA-4E48-9EE7-FF0EE5EA592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αιρετός από το λαό πρόεδρος είναι ο επικεφαλής της κυβέρνησης και διορίζει τους υπουργούς τη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ροεδρικό σύστημ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θητείες του προέδρου και του κοινοβουλίου είναι καθορισμένες και ο ένας θεσμός δεν μπορεί να επιφέρει την πτώση του άλλου.</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πρόσωπα που στελεχώνουν τον ένα θεσμό δεν μπορούν να συμμετέχουν ταυτόχρονα και στον άλλο.</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πρόεδρος είναι επίσης ο αρχηγός του κράτους.</a:t>
            </a:r>
            <a:endParaRPr b="0" lang="en-US" sz="1200" spc="-1" strike="noStrike">
              <a:solidFill>
                <a:srgbClr val="000000"/>
              </a:solidFill>
              <a:latin typeface="Arial"/>
            </a:endParaRPr>
          </a:p>
        </p:txBody>
      </p:sp>
      <p:sp>
        <p:nvSpPr>
          <p:cNvPr id="17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DF477-1462-42E2-A106-AEC07165712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γνήσιο προεδρικό σύστημα είναι μορφή συνταγματικής διακυβέρνησης, στο πλαίσιο της οποίας ο αιρετός αρχηγός του κράτους κυβερνά από κοινού με ανεξάρτητο κοινοβούλιο.</a:t>
            </a:r>
            <a:endParaRPr b="0" lang="en-US" sz="1200" spc="-1" strike="noStrike">
              <a:solidFill>
                <a:srgbClr val="000000"/>
              </a:solidFill>
              <a:latin typeface="Arial"/>
            </a:endParaRPr>
          </a:p>
        </p:txBody>
      </p:sp>
      <p:sp>
        <p:nvSpPr>
          <p:cNvPr id="17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3C7D4-5426-4DD0-B80B-5CAEFADC0E4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Ο δρόμος προς την Ουάσιγκτον (going Washington) σημαίνει ότι ο αμερικανός πρόεδρος συζητά και διαπραγματεύεται με το Κογκρέσο και τα μέλη του Καπιτωλίου, προσπαθώντας να διαμορφώσει τις πλειοψηφίες που είναι αναγκαίες για να περάσουν οι νομοθετικές προτάσεις του.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01E4E-42CD-460E-B8AC-F626C26C113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Ο δρόμος προς την κοινή γνώμη (going public) σημαίνει ότι ο πρόεδρος αξιοποιεί την απαράμιλλη πρόσβαση που έχει στα μέσα ενημέρωσης, προκειμένου να επηρεάσει το λαό και, μέσω αυτού, το Κογκρέσο.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C63B0-06F9-4FEA-B3AA-4616A934B8B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DE9D8-6E66-4EAC-BD73-B6B1987B7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9E8F5-116F-4CB3-8F26-C1FAB67DB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9FEB0-49B5-4461-9B56-4EC45A7F2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2F9A0-F8B7-4056-8B27-DF201B57B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75B593-23A7-4419-B81C-7D70238996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C5C33-C1F9-443A-A99A-47F9CF6537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EC916-8054-4C2A-84F6-4EE14BE8B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AE2BA-B03E-4042-975A-5A83292EF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5BABB-FBB1-44D1-A2C7-4DD4A3247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3DCBA-76F8-479A-9BE6-C044387D14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5344A-10C2-44B1-89D6-FB2037C7F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1BF38-FFF0-4598-A646-525FA345F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4C84B-2935-4773-A434-221405C28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F20EC-8330-46EB-BB6F-A5411C68F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B0140-1F0F-49C2-ACBF-0985DA0DF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BEE634-29F3-485A-968C-46A92C033F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FF82D9-BFBA-4F21-A23C-B17CAFD76E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178C4-F4BC-4740-B34B-01500E6A5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F1027-8322-4197-8387-E66ECD245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3BD44-E8E1-4DD5-A7EB-147836497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24ADC-2AF6-4B9F-A938-333C1EFC1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9C3B0-8C1F-4E99-8511-D153C6521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70027-26A1-4649-B6E0-21617F8D8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A43A9-7EC3-4716-87DB-C819C26505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7F6A9-4953-4DB1-9C24-FCC1DFD087AE}"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7A2CA-9A63-4A32-96DC-8FBF1634A760}"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1</a:t>
            </a:r>
            <a:r>
              <a:rPr b="0" lang="en-US" sz="4800" spc="-1" strike="noStrike">
                <a:solidFill>
                  <a:srgbClr val="660033"/>
                </a:solidFill>
                <a:latin typeface="Times New Roman"/>
              </a:rPr>
              <a:t>6</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κτελεστική εξουσί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660033"/>
                </a:solidFill>
                <a:latin typeface="Times New Roman"/>
              </a:rPr>
              <a:t>Αξιολογώντας το προεδρικό σύστημα</a:t>
            </a:r>
            <a:endParaRPr b="0" lang="en-US" sz="4000" spc="-1" strike="noStrike">
              <a:solidFill>
                <a:srgbClr val="660033"/>
              </a:solidFill>
              <a:latin typeface="Times New Roman"/>
            </a:endParaRPr>
          </a:p>
        </p:txBody>
      </p:sp>
      <p:sp>
        <p:nvSpPr>
          <p:cNvPr id="124" name=""/>
          <p:cNvSpPr txBox="1"/>
          <p:nvPr/>
        </p:nvSpPr>
        <p:spPr>
          <a:xfrm>
            <a:off x="914400" y="1599840"/>
            <a:ext cx="7772400" cy="4530600"/>
          </a:xfrm>
          <a:prstGeom prst="rect">
            <a:avLst/>
          </a:prstGeom>
          <a:noFill/>
          <a:ln w="0">
            <a:noFill/>
          </a:ln>
        </p:spPr>
        <p:txBody>
          <a:bodyPr anchor="t">
            <a:normAutofit fontScale="89000"/>
          </a:bodyPr>
          <a:p>
            <a:pPr marL="305280" indent="-3052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λεονεκτήματα:</a:t>
            </a:r>
            <a:endParaRPr b="0" lang="en-US" sz="2600" spc="-1" strike="noStrike">
              <a:solidFill>
                <a:srgbClr val="000000"/>
              </a:solidFill>
              <a:latin typeface="Arial"/>
            </a:endParaRPr>
          </a:p>
          <a:p>
            <a:pPr lvl="1" marL="660960" indent="-254160">
              <a:spcBef>
                <a:spcPts val="575"/>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Η δεδομένη διάρκεια της θητείας του προέδρου εξασφαλίζει τη συνέχεια της εκτελεστικής εξουσίας</a:t>
            </a:r>
            <a:endParaRPr b="0" lang="en-US" sz="2300" spc="-1" strike="noStrike">
              <a:solidFill>
                <a:srgbClr val="000000"/>
              </a:solidFill>
              <a:latin typeface="Arial"/>
            </a:endParaRPr>
          </a:p>
          <a:p>
            <a:pPr lvl="1" marL="660960" indent="-254160">
              <a:spcBef>
                <a:spcPts val="575"/>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Οι υποψήφιοι οφείλουν να αναπτύξουν ευρεία δίκτυα υποστήριξης σε ολόκληρη την επικράτεια</a:t>
            </a:r>
            <a:endParaRPr b="0" lang="en-US" sz="2300" spc="-1" strike="noStrike">
              <a:solidFill>
                <a:srgbClr val="000000"/>
              </a:solidFill>
              <a:latin typeface="Arial"/>
            </a:endParaRPr>
          </a:p>
          <a:p>
            <a:pPr lvl="1" marL="660960" indent="-254160">
              <a:spcBef>
                <a:spcPts val="575"/>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Έχοντας εκλεγεί από το σύνολο της χώρας, ο πρόεδρος μπορεί στη συνέχεια να επιδιώξει το συλλογικό εθνικό συμφέρον</a:t>
            </a:r>
            <a:endParaRPr b="0" lang="en-US" sz="2300" spc="-1" strike="noStrike">
              <a:solidFill>
                <a:srgbClr val="000000"/>
              </a:solidFill>
              <a:latin typeface="Arial"/>
            </a:endParaRPr>
          </a:p>
          <a:p>
            <a:pPr lvl="1" marL="660960" indent="-254160">
              <a:spcBef>
                <a:spcPts val="575"/>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Ο πρόεδρος αποτελεί φυσικό σύμβολο της εθνικής ενότητας</a:t>
            </a:r>
            <a:endParaRPr b="0" lang="en-US" sz="2300" spc="-1" strike="noStrike">
              <a:solidFill>
                <a:srgbClr val="000000"/>
              </a:solidFill>
              <a:latin typeface="Arial"/>
            </a:endParaRPr>
          </a:p>
          <a:p>
            <a:pPr lvl="1" marL="660960" indent="-254160">
              <a:spcBef>
                <a:spcPts val="575"/>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Η υιοθέτηση του προεδρικού συστήματος συνοδεύεται από το περιορισμένο κράτος και την προστασία των ατομικών ελευθεριών</a:t>
            </a:r>
            <a:endParaRPr b="0" lang="en-US" sz="2300" spc="-1" strike="noStrike">
              <a:solidFill>
                <a:srgbClr val="000000"/>
              </a:solidFill>
              <a:latin typeface="Arial"/>
            </a:endParaRPr>
          </a:p>
          <a:p>
            <a:pPr lvl="1" marL="660960" indent="-25416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0960" indent="-25416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0960" indent="-25416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0960" indent="-25416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0960" indent="-25416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0960" indent="-25416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Αξιολογώντας το προεδρικό σύστημα</a:t>
            </a:r>
            <a:endParaRPr b="0" lang="en-US" sz="4200" spc="-1" strike="noStrike">
              <a:solidFill>
                <a:srgbClr val="660033"/>
              </a:solidFill>
              <a:latin typeface="Times New Roman"/>
            </a:endParaRPr>
          </a:p>
        </p:txBody>
      </p:sp>
      <p:sp>
        <p:nvSpPr>
          <p:cNvPr id="126"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ίνδυνοι:</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Η προεδρία καταλήγει σε ένα και μόνο κόμμ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ολιτική αστάθεια  </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Υπέρβαση ορίων του ρόλου του προέδρου</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Μεγαλύτερη επιρρέπεια στην κατάρρευση</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Κοινοβουλευτικό σύστημα</a:t>
            </a:r>
            <a:endParaRPr b="0" lang="en-US" sz="4200" spc="-1" strike="noStrike">
              <a:solidFill>
                <a:srgbClr val="660033"/>
              </a:solidFill>
              <a:latin typeface="Times New Roman"/>
            </a:endParaRPr>
          </a:p>
        </p:txBody>
      </p:sp>
      <p:sp>
        <p:nvSpPr>
          <p:cNvPr id="128" name=""/>
          <p:cNvSpPr txBox="1"/>
          <p:nvPr/>
        </p:nvSpPr>
        <p:spPr>
          <a:xfrm>
            <a:off x="914400" y="1599840"/>
            <a:ext cx="7772400" cy="4530600"/>
          </a:xfrm>
          <a:prstGeom prst="rect">
            <a:avLst/>
          </a:prstGeom>
          <a:noFill/>
          <a:ln w="0">
            <a:noFill/>
          </a:ln>
        </p:spPr>
        <p:txBody>
          <a:bodyPr anchor="t">
            <a:normAutofit/>
          </a:bodyPr>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Τα κυβερνώντα κόμματα προέρχονται από το κοινοβούλιο και μπορούν να χάσουν την εξουσία εάν υπερψηφιστεί πρόταση δυσπιστίας</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Η κυβέρνηση λειτουργεί συλλογικά μέσω ενός υπουργικού συμβουλίου, στο οποίο παραδοσιακά ο πρωθυπουργός ή ο καγκελάριος είναι πρώτος μεταξύ ίσων</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ατά κανόνα, το αξίωμα του πρωθυπουργού είναι διακριτό από το εθιμοτυπικό αξίωμα του αρχηγού του κράτους</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Κοινοβουλευτικό σύστημα</a:t>
            </a:r>
            <a:endParaRPr b="0" lang="en-US" sz="4200" spc="-1" strike="noStrike">
              <a:solidFill>
                <a:srgbClr val="660033"/>
              </a:solidFill>
              <a:latin typeface="Times New Roman"/>
            </a:endParaRPr>
          </a:p>
        </p:txBody>
      </p:sp>
      <p:sp>
        <p:nvSpPr>
          <p:cNvPr id="130" name=""/>
          <p:cNvSpPr txBox="1"/>
          <p:nvPr/>
        </p:nvSpPr>
        <p:spPr>
          <a:xfrm>
            <a:off x="914400" y="1600200"/>
            <a:ext cx="7772400" cy="457200"/>
          </a:xfrm>
          <a:prstGeom prst="rect">
            <a:avLst/>
          </a:prstGeom>
          <a:noFill/>
          <a:ln w="0">
            <a:noFill/>
          </a:ln>
        </p:spPr>
        <p:txBody>
          <a:bodyPr anchor="t">
            <a:normAutofit/>
          </a:bodyPr>
          <a:p>
            <a:pPr marL="343080" indent="-34308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ήμα 16.2: Κοινοβουλευτικό σύστημα</a:t>
            </a:r>
            <a:endParaRPr b="0" lang="en-US" sz="2000" spc="-1" strike="noStrike">
              <a:solidFill>
                <a:srgbClr val="000000"/>
              </a:solidFill>
              <a:latin typeface="Arial"/>
            </a:endParaRPr>
          </a:p>
        </p:txBody>
      </p:sp>
      <p:pic>
        <p:nvPicPr>
          <p:cNvPr id="131" name="Picture 2" descr="C:\Users\EPIMELEIA\Dropbox\Kritiki-Book-Proofing\14-sigritiki-politiki-hague\images\Hag_Fig_16_02.png"/>
          <p:cNvPicPr/>
          <p:nvPr/>
        </p:nvPicPr>
        <p:blipFill>
          <a:blip r:embed="rId1"/>
          <a:stretch/>
        </p:blipFill>
        <p:spPr>
          <a:xfrm>
            <a:off x="2590920" y="2133720"/>
            <a:ext cx="3468600" cy="4319640"/>
          </a:xfrm>
          <a:prstGeom prst="rect">
            <a:avLst/>
          </a:prstGeom>
          <a:ln w="9360">
            <a:solidFill>
              <a:srgbClr val="ffadd6"/>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Κοινοβουλευτικό σύστημα</a:t>
            </a:r>
            <a:endParaRPr b="0" lang="en-US" sz="4200" spc="-1" strike="noStrike">
              <a:solidFill>
                <a:srgbClr val="660033"/>
              </a:solidFill>
              <a:latin typeface="Times New Roman"/>
            </a:endParaRPr>
          </a:p>
        </p:txBody>
      </p:sp>
      <p:sp>
        <p:nvSpPr>
          <p:cNvPr id="133" name=""/>
          <p:cNvSpPr txBox="1"/>
          <p:nvPr/>
        </p:nvSpPr>
        <p:spPr>
          <a:xfrm>
            <a:off x="914400" y="1600200"/>
            <a:ext cx="7772400" cy="457200"/>
          </a:xfrm>
          <a:prstGeom prst="rect">
            <a:avLst/>
          </a:prstGeom>
          <a:noFill/>
          <a:ln w="0">
            <a:noFill/>
          </a:ln>
        </p:spPr>
        <p:txBody>
          <a:bodyPr anchor="t">
            <a:normAutofit/>
          </a:bodyPr>
          <a:p>
            <a:pPr marL="343080" indent="-34308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ήμα 16.3: Κυβερνήσεις στη Δυτική Ευρώπη, 1945-99</a:t>
            </a:r>
            <a:endParaRPr b="0" lang="en-US" sz="2000" spc="-1" strike="noStrike">
              <a:solidFill>
                <a:srgbClr val="000000"/>
              </a:solidFill>
              <a:latin typeface="Arial"/>
            </a:endParaRPr>
          </a:p>
          <a:p>
            <a:pPr marL="343080" indent="-34308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4" name="Picture 2" descr="C:\Users\EPIMELEIA\Dropbox\Kritiki-Book-Proofing\14-sigritiki-politiki-hague\images\Hag_Fig_16_03.png"/>
          <p:cNvPicPr/>
          <p:nvPr/>
        </p:nvPicPr>
        <p:blipFill>
          <a:blip r:embed="rId1"/>
          <a:stretch/>
        </p:blipFill>
        <p:spPr>
          <a:xfrm>
            <a:off x="2514600" y="2133720"/>
            <a:ext cx="4319640" cy="431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Κυβερνήσεις μειοψηφίας και συνασπισμού</a:t>
            </a:r>
            <a:endParaRPr b="0" lang="en-US" sz="4200" spc="-1" strike="noStrike">
              <a:solidFill>
                <a:srgbClr val="660033"/>
              </a:solidFill>
              <a:latin typeface="Times New Roman"/>
            </a:endParaRPr>
          </a:p>
        </p:txBody>
      </p:sp>
      <p:pic>
        <p:nvPicPr>
          <p:cNvPr id="136" name="Picture 2" descr=""/>
          <p:cNvPicPr/>
          <p:nvPr/>
        </p:nvPicPr>
        <p:blipFill>
          <a:blip r:embed="rId1"/>
          <a:stretch/>
        </p:blipFill>
        <p:spPr>
          <a:xfrm>
            <a:off x="1219320" y="1752480"/>
            <a:ext cx="7010280" cy="4457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Κατηγορίες συμμαχικών κυβερνήσεων</a:t>
            </a:r>
            <a:endParaRPr b="0" lang="en-US" sz="4200" spc="-1" strike="noStrike">
              <a:solidFill>
                <a:srgbClr val="660033"/>
              </a:solidFill>
              <a:latin typeface="Times New Roman"/>
            </a:endParaRPr>
          </a:p>
        </p:txBody>
      </p:sp>
      <p:pic>
        <p:nvPicPr>
          <p:cNvPr id="138" name="Picture 2" descr=""/>
          <p:cNvPicPr/>
          <p:nvPr/>
        </p:nvPicPr>
        <p:blipFill>
          <a:blip r:embed="rId1"/>
          <a:stretch/>
        </p:blipFill>
        <p:spPr>
          <a:xfrm>
            <a:off x="1436760" y="1662120"/>
            <a:ext cx="6792840" cy="4967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οιος κυβερνά;</a:t>
            </a:r>
            <a:endParaRPr b="0" lang="en-US" sz="4200" spc="-1" strike="noStrike">
              <a:solidFill>
                <a:srgbClr val="660033"/>
              </a:solidFill>
              <a:latin typeface="Times New Roman"/>
            </a:endParaRPr>
          </a:p>
        </p:txBody>
      </p:sp>
      <p:pic>
        <p:nvPicPr>
          <p:cNvPr id="140" name="Picture 2" descr=""/>
          <p:cNvPicPr/>
          <p:nvPr/>
        </p:nvPicPr>
        <p:blipFill>
          <a:blip r:embed="rId1"/>
          <a:stretch/>
        </p:blipFill>
        <p:spPr>
          <a:xfrm>
            <a:off x="1266840" y="1752480"/>
            <a:ext cx="7039080" cy="3962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660033"/>
                </a:solidFill>
                <a:latin typeface="Times New Roman"/>
              </a:rPr>
              <a:t>Οι αρχηγοί των κρατών και το κοινοβουλευτικό σύστημα</a:t>
            </a:r>
            <a:endParaRPr b="0" lang="en-US" sz="4000" spc="-1" strike="noStrike">
              <a:solidFill>
                <a:srgbClr val="660033"/>
              </a:solidFill>
              <a:latin typeface="Times New Roman"/>
            </a:endParaRPr>
          </a:p>
        </p:txBody>
      </p:sp>
      <p:sp>
        <p:nvSpPr>
          <p:cNvPr id="142"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ιακυβέρνηση:</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θιμικό ή μεγαλοπρεπές (</a:t>
            </a:r>
            <a:r>
              <a:rPr b="0" lang="en-US" sz="2600" spc="-1" strike="noStrike">
                <a:solidFill>
                  <a:srgbClr val="000000"/>
                </a:solidFill>
                <a:latin typeface="Arial"/>
              </a:rPr>
              <a:t>dignified) </a:t>
            </a:r>
            <a:r>
              <a:rPr b="0" lang="el-GR" sz="2600" spc="-1" strike="noStrike">
                <a:solidFill>
                  <a:srgbClr val="000000"/>
                </a:solidFill>
                <a:latin typeface="Arial"/>
              </a:rPr>
              <a:t>στοιχείο</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Ουσιαστικό (</a:t>
            </a:r>
            <a:r>
              <a:rPr b="0" lang="en-US" sz="2600" spc="-1" strike="noStrike">
                <a:solidFill>
                  <a:srgbClr val="000000"/>
                </a:solidFill>
                <a:latin typeface="Arial"/>
              </a:rPr>
              <a:t>efficient) </a:t>
            </a:r>
            <a:r>
              <a:rPr b="0" lang="el-GR" sz="2600" spc="-1" strike="noStrike">
                <a:solidFill>
                  <a:srgbClr val="000000"/>
                </a:solidFill>
                <a:latin typeface="Arial"/>
              </a:rPr>
              <a:t>στοιχείο</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μιπροεδρικό σύστημα</a:t>
            </a:r>
            <a:endParaRPr b="0" lang="en-US" sz="4200" spc="-1" strike="noStrike">
              <a:solidFill>
                <a:srgbClr val="660033"/>
              </a:solidFill>
              <a:latin typeface="Times New Roman"/>
            </a:endParaRPr>
          </a:p>
        </p:txBody>
      </p:sp>
      <p:sp>
        <p:nvSpPr>
          <p:cNvPr id="144"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ημιπροεδρικό σύστημα (semi-presidential government), που ονομάζεται ορισμένες φορές και δικέφαλη εκτελεστική εξουσία (dual executive), συνδυάζει το αξίωμα του αιρετού και κατόχου πολιτικών εξουσιών προέδρου με έναν πρωθυπουργό ο οποίος ηγείται του υπουργικού συμβουλίου και λογοδοτεί στο κοινοβούλιο.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ισαγωγή</a:t>
            </a:r>
            <a:endParaRPr b="0" lang="en-US" sz="4200" spc="-1" strike="noStrike">
              <a:solidFill>
                <a:srgbClr val="660033"/>
              </a:solidFill>
              <a:latin typeface="Times New Roman"/>
            </a:endParaRPr>
          </a:p>
        </p:txBody>
      </p:sp>
      <p:sp>
        <p:nvSpPr>
          <p:cNvPr id="107"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εκτελεστική εξουσία (political executive) αποτελεί το κορυφαίο επίπεδο των κυβερνητικών θεσμών. Κατευθύνει τις υποθέσεις του έθνους, επιβλέπει την υλοποίηση των πολιτικών, κινητοποιεί τη λαϊκή υποστήριξη και ηγείται της χώρας σε περιόδους κρίσεων.</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μιπροεδρικό σύστημα</a:t>
            </a:r>
            <a:endParaRPr b="0" lang="en-US" sz="4200" spc="-1" strike="noStrike">
              <a:solidFill>
                <a:srgbClr val="660033"/>
              </a:solidFill>
              <a:latin typeface="Times New Roman"/>
            </a:endParaRPr>
          </a:p>
        </p:txBody>
      </p:sp>
      <p:sp>
        <p:nvSpPr>
          <p:cNvPr id="146" name=""/>
          <p:cNvSpPr txBox="1"/>
          <p:nvPr/>
        </p:nvSpPr>
        <p:spPr>
          <a:xfrm>
            <a:off x="914400" y="1523880"/>
            <a:ext cx="7772400" cy="457200"/>
          </a:xfrm>
          <a:prstGeom prst="rect">
            <a:avLst/>
          </a:prstGeom>
          <a:noFill/>
          <a:ln w="0">
            <a:noFill/>
          </a:ln>
        </p:spPr>
        <p:txBody>
          <a:bodyPr anchor="t">
            <a:normAutofit/>
          </a:bodyPr>
          <a:p>
            <a:pPr marL="343080" indent="-34308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ήμα 16.5: Το ημιπροεδρικό σύστημα</a:t>
            </a:r>
            <a:endParaRPr b="0" lang="en-US" sz="2000" spc="-1" strike="noStrike">
              <a:solidFill>
                <a:srgbClr val="000000"/>
              </a:solidFill>
              <a:latin typeface="Arial"/>
            </a:endParaRPr>
          </a:p>
        </p:txBody>
      </p:sp>
      <p:pic>
        <p:nvPicPr>
          <p:cNvPr id="147" name="Picture 2" descr="C:\Users\EPIMELEIA\Dropbox\Kritiki-Book-Proofing\14-sigritiki-politiki-hague\images\Hag_Fig_16_05.png"/>
          <p:cNvPicPr/>
          <p:nvPr/>
        </p:nvPicPr>
        <p:blipFill>
          <a:blip r:embed="rId1"/>
          <a:stretch/>
        </p:blipFill>
        <p:spPr>
          <a:xfrm>
            <a:off x="2571840" y="2057400"/>
            <a:ext cx="3752640" cy="4535640"/>
          </a:xfrm>
          <a:prstGeom prst="rect">
            <a:avLst/>
          </a:prstGeom>
          <a:ln w="9360">
            <a:solidFill>
              <a:srgbClr val="ffadd6"/>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μιπροεδρικό σύστημα</a:t>
            </a:r>
            <a:endParaRPr b="0" lang="en-US" sz="4200" spc="-1" strike="noStrike">
              <a:solidFill>
                <a:srgbClr val="660033"/>
              </a:solidFill>
              <a:latin typeface="Times New Roman"/>
            </a:endParaRPr>
          </a:p>
        </p:txBody>
      </p:sp>
      <p:sp>
        <p:nvSpPr>
          <p:cNvPr id="149"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Ως συγκατοίκηση (</a:t>
            </a:r>
            <a:r>
              <a:rPr b="0" lang="en-US" sz="2800" spc="-1" strike="noStrike">
                <a:solidFill>
                  <a:srgbClr val="000000"/>
                </a:solidFill>
                <a:latin typeface="Arial"/>
              </a:rPr>
              <a:t>cohabitation) </a:t>
            </a:r>
            <a:r>
              <a:rPr b="0" lang="el-GR" sz="2800" spc="-1" strike="noStrike">
                <a:solidFill>
                  <a:srgbClr val="000000"/>
                </a:solidFill>
                <a:latin typeface="Arial"/>
              </a:rPr>
              <a:t>νοείται, στο πλαίσιο ενός ημιπροεδρικού συστήματος, η διαφορετική κομματική προέλευση του προέδρου και του πρωθυπουργού.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660033"/>
                </a:solidFill>
                <a:latin typeface="Times New Roman"/>
              </a:rPr>
              <a:t>Η εκτελεστική εξουσία </a:t>
            </a:r>
            <a:br>
              <a:rPr sz="4000"/>
            </a:br>
            <a:r>
              <a:rPr b="0" lang="el-GR" sz="4000" spc="-1" strike="noStrike">
                <a:solidFill>
                  <a:srgbClr val="660033"/>
                </a:solidFill>
                <a:latin typeface="Times New Roman"/>
              </a:rPr>
              <a:t>της Ευρωπαϊκής Ένωσης</a:t>
            </a:r>
            <a:endParaRPr b="0" lang="en-US" sz="4000" spc="-1" strike="noStrike">
              <a:solidFill>
                <a:srgbClr val="660033"/>
              </a:solidFill>
              <a:latin typeface="Times New Roman"/>
            </a:endParaRPr>
          </a:p>
        </p:txBody>
      </p:sp>
      <p:sp>
        <p:nvSpPr>
          <p:cNvPr id="151"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Φορείς εκτελεστικής εξουσίας στην ΕΕ:</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υρωπαϊκή Επιτροπή – εκπροσωπεί το κοινό ευρωπαϊκό συμφέρον</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υμβούλιο της Ευρωπαϊκής Ένωσης – εκπροσωπεί τα κράτη-μέλη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Ευρωπαϊκή Επιτροπή</a:t>
            </a:r>
            <a:endParaRPr b="0" lang="en-US" sz="4200" spc="-1" strike="noStrike">
              <a:solidFill>
                <a:srgbClr val="660033"/>
              </a:solidFill>
              <a:latin typeface="Times New Roman"/>
            </a:endParaRPr>
          </a:p>
        </p:txBody>
      </p:sp>
      <p:sp>
        <p:nvSpPr>
          <p:cNvPr id="153" name=""/>
          <p:cNvSpPr txBox="1"/>
          <p:nvPr/>
        </p:nvSpPr>
        <p:spPr>
          <a:xfrm>
            <a:off x="914400" y="1599840"/>
            <a:ext cx="7772400" cy="4530600"/>
          </a:xfrm>
          <a:prstGeom prst="rect">
            <a:avLst/>
          </a:prstGeom>
          <a:noFill/>
          <a:ln w="0">
            <a:noFill/>
          </a:ln>
        </p:spPr>
        <p:txBody>
          <a:bodyPr anchor="t">
            <a:normAutofit/>
          </a:bodyPr>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Ρόλος Κομισιόν:</a:t>
            </a:r>
            <a:endParaRPr b="0" lang="en-US" sz="2600" spc="-1" strike="noStrike">
              <a:solidFill>
                <a:srgbClr val="000000"/>
              </a:solidFill>
              <a:latin typeface="Arial"/>
            </a:endParaRPr>
          </a:p>
          <a:p>
            <a:pPr lvl="1" marL="743040" indent="-285840">
              <a:spcBef>
                <a:spcPts val="601"/>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νεργεί, από κοινού με το Ευρωπαϊκό Δικαστήριο, ως θεματοφύλακας των συνθηκών</a:t>
            </a:r>
            <a:endParaRPr b="0" lang="en-US" sz="2400" spc="-1" strike="noStrike">
              <a:solidFill>
                <a:srgbClr val="000000"/>
              </a:solidFill>
              <a:latin typeface="Arial"/>
            </a:endParaRPr>
          </a:p>
          <a:p>
            <a:pPr lvl="1" marL="743040" indent="-285840">
              <a:spcBef>
                <a:spcPts val="601"/>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Έχει το αποκλειστικό δικαίωμα πρωτοβουλίας</a:t>
            </a:r>
            <a:endParaRPr b="0" lang="en-US" sz="2400" spc="-1" strike="noStrike">
              <a:solidFill>
                <a:srgbClr val="000000"/>
              </a:solidFill>
              <a:latin typeface="Arial"/>
            </a:endParaRPr>
          </a:p>
          <a:p>
            <a:pPr lvl="1" marL="743040" indent="-285840">
              <a:spcBef>
                <a:spcPts val="601"/>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ιαχειρίζεται και εκτελεί τον κοινοτικό προϋπολογισμό</a:t>
            </a:r>
            <a:endParaRPr b="0" lang="en-US" sz="2400" spc="-1" strike="noStrike">
              <a:solidFill>
                <a:srgbClr val="000000"/>
              </a:solidFill>
              <a:latin typeface="Arial"/>
            </a:endParaRPr>
          </a:p>
          <a:p>
            <a:pPr lvl="1" marL="743040" indent="-285840">
              <a:spcBef>
                <a:spcPts val="601"/>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ξασφαλίζει την ορθή εφαρμογή της κοινοτικής πολιτικής από τα κράτη-μέλη και τις ευρωπαϊκές υπηρεσίες</a:t>
            </a:r>
            <a:endParaRPr b="0" lang="en-US" sz="2400" spc="-1" strike="noStrike">
              <a:solidFill>
                <a:srgbClr val="000000"/>
              </a:solidFill>
              <a:latin typeface="Arial"/>
            </a:endParaRPr>
          </a:p>
          <a:p>
            <a:pPr lvl="1" marL="743040" indent="-285840">
              <a:spcBef>
                <a:spcPts val="601"/>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κπροσωπεί την ΕΕ στη διεθνή σκηνή</a:t>
            </a:r>
            <a:endParaRPr b="0" lang="en-US" sz="2400" spc="-1" strike="noStrike">
              <a:solidFill>
                <a:srgbClr val="000000"/>
              </a:solidFill>
              <a:latin typeface="Arial"/>
            </a:endParaRPr>
          </a:p>
          <a:p>
            <a:pPr lvl="2" marL="1143000" indent="-228600">
              <a:spcBef>
                <a:spcPts val="601"/>
              </a:spcBef>
              <a:buClr>
                <a:srgbClr val="cccc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660033"/>
                </a:solidFill>
                <a:latin typeface="Times New Roman"/>
              </a:rPr>
              <a:t>Συμβούλιο της Ευρωπαϊκής Ένωσης</a:t>
            </a:r>
            <a:endParaRPr b="0" lang="en-US" sz="4000" spc="-1" strike="noStrike">
              <a:solidFill>
                <a:srgbClr val="660033"/>
              </a:solidFill>
              <a:latin typeface="Times New Roman"/>
            </a:endParaRPr>
          </a:p>
        </p:txBody>
      </p:sp>
      <p:sp>
        <p:nvSpPr>
          <p:cNvPr id="155" name=""/>
          <p:cNvSpPr txBox="1"/>
          <p:nvPr/>
        </p:nvSpPr>
        <p:spPr>
          <a:xfrm>
            <a:off x="914400" y="1599840"/>
            <a:ext cx="7772400" cy="4530600"/>
          </a:xfrm>
          <a:prstGeom prst="rect">
            <a:avLst/>
          </a:prstGeom>
          <a:noFill/>
          <a:ln w="0">
            <a:noFill/>
          </a:ln>
        </p:spPr>
        <p:txBody>
          <a:bodyPr anchor="t">
            <a:normAutofit fontScale="94000"/>
          </a:bodyPr>
          <a:p>
            <a:pPr marL="322200" indent="-32220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ρμοδιότητες Συμβουλίου:</a:t>
            </a:r>
            <a:endParaRPr b="0" lang="en-US" sz="2600" spc="-1" strike="noStrike">
              <a:solidFill>
                <a:srgbClr val="000000"/>
              </a:solidFill>
              <a:latin typeface="Arial"/>
            </a:endParaRPr>
          </a:p>
          <a:p>
            <a:pPr lvl="1" marL="698400" indent="-268560">
              <a:spcBef>
                <a:spcPts val="575"/>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Θεσπίζει νομοθεσία</a:t>
            </a:r>
            <a:endParaRPr b="0" lang="en-US" sz="2300" spc="-1" strike="noStrike">
              <a:solidFill>
                <a:srgbClr val="000000"/>
              </a:solidFill>
              <a:latin typeface="Arial"/>
            </a:endParaRPr>
          </a:p>
          <a:p>
            <a:pPr lvl="1" marL="698400" indent="-268560">
              <a:spcBef>
                <a:spcPts val="575"/>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Συντονίζει τη γενική οικονομική πολιτική των κρατών-μελών</a:t>
            </a:r>
            <a:endParaRPr b="0" lang="en-US" sz="2300" spc="-1" strike="noStrike">
              <a:solidFill>
                <a:srgbClr val="000000"/>
              </a:solidFill>
              <a:latin typeface="Arial"/>
            </a:endParaRPr>
          </a:p>
          <a:p>
            <a:pPr lvl="1" marL="698400" indent="-268560">
              <a:spcBef>
                <a:spcPts val="575"/>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Συνομολογεί διεθνείς συμφωνίες</a:t>
            </a:r>
            <a:endParaRPr b="0" lang="en-US" sz="2300" spc="-1" strike="noStrike">
              <a:solidFill>
                <a:srgbClr val="000000"/>
              </a:solidFill>
              <a:latin typeface="Arial"/>
            </a:endParaRPr>
          </a:p>
          <a:p>
            <a:pPr lvl="1" marL="698400" indent="-268560">
              <a:spcBef>
                <a:spcPts val="575"/>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Εγκρίνει τον κοινοτικό προϋπολογισμό από κοινού με το ΕΚ </a:t>
            </a:r>
            <a:endParaRPr b="0" lang="en-US" sz="2300" spc="-1" strike="noStrike">
              <a:solidFill>
                <a:srgbClr val="000000"/>
              </a:solidFill>
              <a:latin typeface="Arial"/>
            </a:endParaRPr>
          </a:p>
          <a:p>
            <a:pPr lvl="1" marL="698400" indent="-268560">
              <a:spcBef>
                <a:spcPts val="575"/>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Υλοποιεί την εξωτερική πολιτική και την πολιτική ασφάλειας της ΕΕ</a:t>
            </a:r>
            <a:endParaRPr b="0" lang="en-US" sz="2300" spc="-1" strike="noStrike">
              <a:solidFill>
                <a:srgbClr val="000000"/>
              </a:solidFill>
              <a:latin typeface="Arial"/>
            </a:endParaRPr>
          </a:p>
          <a:p>
            <a:pPr lvl="1" marL="698400" indent="-268560">
              <a:spcBef>
                <a:spcPts val="575"/>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Συντονίζει τη δράση των κρατών-μελών στο πλαίσιο της δικαστικής και αστυνομικής συνεργασίας σε ποινικές υποθέσεις διασυνοριακού χαρακτήρα</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660033"/>
                </a:solidFill>
                <a:latin typeface="Times New Roman"/>
              </a:rPr>
              <a:t>Η εκτελεστική εξουσία </a:t>
            </a:r>
            <a:br>
              <a:rPr sz="4000"/>
            </a:br>
            <a:r>
              <a:rPr b="0" lang="el-GR" sz="4000" spc="-1" strike="noStrike">
                <a:solidFill>
                  <a:srgbClr val="660033"/>
                </a:solidFill>
                <a:latin typeface="Times New Roman"/>
              </a:rPr>
              <a:t>στα απολυταρχικά κράτη</a:t>
            </a:r>
            <a:endParaRPr b="0" lang="en-US" sz="4000" spc="-1" strike="noStrike">
              <a:solidFill>
                <a:srgbClr val="660033"/>
              </a:solidFill>
              <a:latin typeface="Times New Roman"/>
            </a:endParaRPr>
          </a:p>
        </p:txBody>
      </p:sp>
      <p:sp>
        <p:nvSpPr>
          <p:cNvPr id="157"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η θεσμοθετημένος χαρακτήρας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υγκέντρωση εξουσίας στον ηγέτη</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ώθηση πολιτικών σκοπιμοτήτω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660033"/>
                </a:solidFill>
                <a:latin typeface="Times New Roman"/>
              </a:rPr>
              <a:t>Η εκτελεστική εξουσία </a:t>
            </a:r>
            <a:br>
              <a:rPr sz="4000"/>
            </a:br>
            <a:r>
              <a:rPr b="0" lang="el-GR" sz="4000" spc="-1" strike="noStrike">
                <a:solidFill>
                  <a:srgbClr val="660033"/>
                </a:solidFill>
                <a:latin typeface="Times New Roman"/>
              </a:rPr>
              <a:t>στα απολυταρχικά κράτη</a:t>
            </a:r>
            <a:endParaRPr b="0" lang="en-US" sz="4000" spc="-1" strike="noStrike">
              <a:solidFill>
                <a:srgbClr val="660033"/>
              </a:solidFill>
              <a:latin typeface="Times New Roman"/>
            </a:endParaRPr>
          </a:p>
        </p:txBody>
      </p:sp>
      <p:sp>
        <p:nvSpPr>
          <p:cNvPr id="159"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Ως προσωπική εξουσία (personal rule) ορίζουν οι Jackson και Rosberg (1982, σ. 19) κάθε «σύστημα σχέσεων που συνδέει τους ηγέτες όχι με το </a:t>
            </a:r>
            <a:r>
              <a:rPr b="0" lang="en-US" sz="2800" spc="-1" strike="noStrike">
                <a:solidFill>
                  <a:srgbClr val="000000"/>
                </a:solidFill>
                <a:latin typeface="Arial"/>
              </a:rPr>
              <a:t>“</a:t>
            </a:r>
            <a:r>
              <a:rPr b="0" lang="el-GR" sz="2800" spc="-1" strike="noStrike">
                <a:solidFill>
                  <a:srgbClr val="000000"/>
                </a:solidFill>
                <a:latin typeface="Arial"/>
              </a:rPr>
              <a:t>κοινό</a:t>
            </a:r>
            <a:r>
              <a:rPr b="0" lang="en-US" sz="2800" spc="-1" strike="noStrike">
                <a:solidFill>
                  <a:srgbClr val="000000"/>
                </a:solidFill>
                <a:latin typeface="Arial"/>
              </a:rPr>
              <a:t>”</a:t>
            </a:r>
            <a:r>
              <a:rPr b="0" lang="el-GR" sz="2800" spc="-1" strike="noStrike">
                <a:solidFill>
                  <a:srgbClr val="000000"/>
                </a:solidFill>
                <a:latin typeface="Arial"/>
              </a:rPr>
              <a:t> ή έστω με τους αρχομένους, αλλά με τους πάτρωνες, τους συνεργάτες, τους πελάτες και τους αντιπάλους που συγκροτούν από κοινού το </a:t>
            </a:r>
            <a:r>
              <a:rPr b="0" lang="en-US" sz="2800" spc="-1" strike="noStrike">
                <a:solidFill>
                  <a:srgbClr val="000000"/>
                </a:solidFill>
                <a:latin typeface="Arial"/>
              </a:rPr>
              <a:t>“</a:t>
            </a:r>
            <a:r>
              <a:rPr b="0" lang="el-GR" sz="2800" spc="-1" strike="noStrike">
                <a:solidFill>
                  <a:srgbClr val="000000"/>
                </a:solidFill>
                <a:latin typeface="Arial"/>
              </a:rPr>
              <a:t>σύστημα</a:t>
            </a:r>
            <a:r>
              <a:rPr b="0" lang="en-US" sz="2800" spc="-1" strike="noStrike">
                <a:solidFill>
                  <a:srgbClr val="000000"/>
                </a:solidFill>
                <a:latin typeface="Arial"/>
              </a:rPr>
              <a:t>”</a:t>
            </a:r>
            <a:r>
              <a:rPr b="0" lang="el-GR"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l-GR" sz="4000" spc="-1" strike="noStrike">
                <a:solidFill>
                  <a:srgbClr val="660033"/>
                </a:solidFill>
                <a:latin typeface="Times New Roman"/>
              </a:rPr>
              <a:t>Η εκτελεστική εξουσία </a:t>
            </a:r>
            <a:br>
              <a:rPr sz="4000"/>
            </a:br>
            <a:r>
              <a:rPr b="0" lang="el-GR" sz="4000" spc="-1" strike="noStrike">
                <a:solidFill>
                  <a:srgbClr val="660033"/>
                </a:solidFill>
                <a:latin typeface="Times New Roman"/>
              </a:rPr>
              <a:t>στις ανελεύθερες δημοκρατίες</a:t>
            </a:r>
            <a:br>
              <a:rPr sz="4000"/>
            </a:br>
            <a:endParaRPr b="0" lang="en-US" sz="4000" spc="-1" strike="noStrike">
              <a:solidFill>
                <a:srgbClr val="660033"/>
              </a:solidFill>
              <a:latin typeface="Times New Roman"/>
            </a:endParaRPr>
          </a:p>
        </p:txBody>
      </p:sp>
      <p:sp>
        <p:nvSpPr>
          <p:cNvPr id="161"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εδρικό σύστημ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πρόεδρος ενεργεί χωρίς να περιορίζεται</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σωπική εξουσί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l-GR" sz="4000" spc="-1" strike="noStrike">
                <a:solidFill>
                  <a:srgbClr val="660033"/>
                </a:solidFill>
                <a:latin typeface="Times New Roman"/>
              </a:rPr>
              <a:t>Η εκτελεστική εξουσία </a:t>
            </a:r>
            <a:br>
              <a:rPr sz="4000"/>
            </a:br>
            <a:r>
              <a:rPr b="0" lang="el-GR" sz="4000" spc="-1" strike="noStrike">
                <a:solidFill>
                  <a:srgbClr val="660033"/>
                </a:solidFill>
                <a:latin typeface="Times New Roman"/>
              </a:rPr>
              <a:t>στις ανελεύθερες δημοκρατίες</a:t>
            </a:r>
            <a:br>
              <a:rPr sz="4000"/>
            </a:br>
            <a:endParaRPr b="0" lang="en-US" sz="4000" spc="-1" strike="noStrike">
              <a:solidFill>
                <a:srgbClr val="660033"/>
              </a:solidFill>
              <a:latin typeface="Times New Roman"/>
            </a:endParaRPr>
          </a:p>
        </p:txBody>
      </p:sp>
      <p:sp>
        <p:nvSpPr>
          <p:cNvPr id="163"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κάθετη λογοδοσία (vertical accountability) υφίσταται όταν ο δρων σε ένα επίπεδο εποπτεύεται ή μπορεί να υποστεί κυρώσεις από κάποιο δρώντα που βρίσκεται σε άλλο επίπεδο.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οριζόντια λογοδοσία (horizontal accountability) υφίσταται όταν η εποπτεία λειτουργεί στο ίδιο επίπεδο.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4 - TextBox"/>
          <p:cNvSpPr/>
          <p:nvPr/>
        </p:nvSpPr>
        <p:spPr>
          <a:xfrm>
            <a:off x="1295280" y="2328840"/>
            <a:ext cx="7010640" cy="1922760"/>
          </a:xfrm>
          <a:prstGeom prst="rect">
            <a:avLst/>
          </a:prstGeom>
          <a:noFill/>
          <a:ln w="9360">
            <a:solidFill>
              <a:srgbClr val="d3d31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Απαγορεύεται η αναδημοσίευση ή αναπαραγωγή του παρόντος έργου με οποιονδήποτε τρόπο χωρίς γραπτή άδεια του εκδότη, σύμφωνα με το Ν. 2121/1993 και τη Διεθνή Σύμβαση της Βέρνη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που έχει κυρωθεί με τον Ν. 100/1975)</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ισαγωγή</a:t>
            </a:r>
            <a:endParaRPr b="0" lang="en-US" sz="4200" spc="-1" strike="noStrike">
              <a:solidFill>
                <a:srgbClr val="660033"/>
              </a:solidFill>
              <a:latin typeface="Times New Roman"/>
            </a:endParaRPr>
          </a:p>
        </p:txBody>
      </p:sp>
      <p:sp>
        <p:nvSpPr>
          <p:cNvPr id="109"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ατηγορίες εκτελεστικής εξουσίας:</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ροεδρική</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οινοβουλευτική</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Ημιπροεδρική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ροεδρικό σύστημα</a:t>
            </a:r>
            <a:endParaRPr b="0" lang="en-US" sz="4200" spc="-1" strike="noStrike">
              <a:solidFill>
                <a:srgbClr val="660033"/>
              </a:solidFill>
              <a:latin typeface="Times New Roman"/>
            </a:endParaRPr>
          </a:p>
        </p:txBody>
      </p:sp>
      <p:sp>
        <p:nvSpPr>
          <p:cNvPr id="111" name=""/>
          <p:cNvSpPr txBox="1"/>
          <p:nvPr/>
        </p:nvSpPr>
        <p:spPr>
          <a:xfrm>
            <a:off x="914400" y="1599840"/>
            <a:ext cx="7772400" cy="4530600"/>
          </a:xfrm>
          <a:prstGeom prst="rect">
            <a:avLst/>
          </a:prstGeom>
          <a:noFill/>
          <a:ln w="0">
            <a:noFill/>
          </a:ln>
        </p:spPr>
        <p:txBody>
          <a:bodyPr anchor="t">
            <a:normAutofit/>
          </a:bodyPr>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Ο αιρετός από το λαό πρόεδρος είναι ο επικεφαλής της κυβέρνησης και διορίζει τους υπουργούς της</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Οι θητείες του προέδρου και του κοινοβουλίου είναι καθορισμένες και ο ένας θεσμός δεν μπορεί να επιφέρει την πτώση του άλλου</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Τα πρόσωπα που στελεχώνουν τον ένα θεσμό δεν μπορούν να συμμετέχουν ταυτόχρονα και στον άλλο</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Ο πρόεδρος είναι επίσης ο αρχηγός του κράτου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ροεδρικό σύστημα</a:t>
            </a:r>
            <a:endParaRPr b="0" lang="en-US" sz="4200" spc="-1" strike="noStrike">
              <a:solidFill>
                <a:srgbClr val="660033"/>
              </a:solidFill>
              <a:latin typeface="Times New Roman"/>
            </a:endParaRPr>
          </a:p>
        </p:txBody>
      </p:sp>
      <p:sp>
        <p:nvSpPr>
          <p:cNvPr id="113" name=""/>
          <p:cNvSpPr txBox="1"/>
          <p:nvPr/>
        </p:nvSpPr>
        <p:spPr>
          <a:xfrm>
            <a:off x="914400" y="1600200"/>
            <a:ext cx="7772400" cy="457200"/>
          </a:xfrm>
          <a:prstGeom prst="rect">
            <a:avLst/>
          </a:prstGeom>
          <a:noFill/>
          <a:ln w="0">
            <a:noFill/>
          </a:ln>
        </p:spPr>
        <p:txBody>
          <a:bodyPr anchor="t">
            <a:normAutofit/>
          </a:bodyPr>
          <a:p>
            <a:pPr marL="343080" indent="-34308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ήμα 16.1: Προεδρικό σύστημα</a:t>
            </a:r>
            <a:endParaRPr b="0" lang="en-US" sz="2000" spc="-1" strike="noStrike">
              <a:solidFill>
                <a:srgbClr val="000000"/>
              </a:solidFill>
              <a:latin typeface="Arial"/>
            </a:endParaRPr>
          </a:p>
        </p:txBody>
      </p:sp>
      <p:pic>
        <p:nvPicPr>
          <p:cNvPr id="114" name="Picture 2" descr="C:\Users\EPIMELEIA\Dropbox\Kritiki-Book-Proofing\14-sigritiki-politiki-hague\images\Hag_Fig_16_01.png"/>
          <p:cNvPicPr/>
          <p:nvPr/>
        </p:nvPicPr>
        <p:blipFill>
          <a:blip r:embed="rId1"/>
          <a:stretch/>
        </p:blipFill>
        <p:spPr>
          <a:xfrm>
            <a:off x="2441520" y="2133720"/>
            <a:ext cx="3959280" cy="3959280"/>
          </a:xfrm>
          <a:prstGeom prst="rect">
            <a:avLst/>
          </a:prstGeom>
          <a:ln w="9360">
            <a:solidFill>
              <a:srgbClr val="ffadd6"/>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Οι Ηνωμένες Πολιτείες</a:t>
            </a:r>
            <a:endParaRPr b="0" lang="en-US" sz="4200" spc="-1" strike="noStrike">
              <a:solidFill>
                <a:srgbClr val="660033"/>
              </a:solidFill>
              <a:latin typeface="Times New Roman"/>
            </a:endParaRPr>
          </a:p>
        </p:txBody>
      </p:sp>
      <p:pic>
        <p:nvPicPr>
          <p:cNvPr id="116" name="Picture 2" descr=""/>
          <p:cNvPicPr/>
          <p:nvPr/>
        </p:nvPicPr>
        <p:blipFill>
          <a:blip r:embed="rId1"/>
          <a:stretch/>
        </p:blipFill>
        <p:spPr>
          <a:xfrm>
            <a:off x="1095480" y="1828800"/>
            <a:ext cx="7057800" cy="439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Οι Ηνωμένες Πολιτείες</a:t>
            </a:r>
            <a:endParaRPr b="0" lang="en-US" sz="4200" spc="-1" strike="noStrike">
              <a:solidFill>
                <a:srgbClr val="660033"/>
              </a:solidFill>
              <a:latin typeface="Times New Roman"/>
            </a:endParaRPr>
          </a:p>
        </p:txBody>
      </p:sp>
      <p:sp>
        <p:nvSpPr>
          <p:cNvPr id="118"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δρόμος προς την Ουάσιγκτον (going Washington) σημαίνει ότι ο αμερικανός πρόεδρος συζητά και διαπραγματεύεται με το Κογκρέσο και τα μέλη του Καπιτωλίου, προσπαθώντας να διαμορφώσει τις πλειοψηφίες που είναι αναγκαίες για να περάσουν οι νομοθετικές προτάσεις το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Οι Ηνωμένες Πολιτείες </a:t>
            </a:r>
            <a:endParaRPr b="0" lang="en-US" sz="4200" spc="-1" strike="noStrike">
              <a:solidFill>
                <a:srgbClr val="660033"/>
              </a:solidFill>
              <a:latin typeface="Times New Roman"/>
            </a:endParaRPr>
          </a:p>
        </p:txBody>
      </p:sp>
      <p:sp>
        <p:nvSpPr>
          <p:cNvPr id="120"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δρόμος προς την κοινή γνώμη (going public) σημαίνει ότι ο πρόεδρος αξιοποιεί την απαράμιλλη πρόσβαση που έχει στα μέσα ενημέρωσης, προκειμένου να επηρεάσει το λαό και, μέσω αυτού, το Κογκρέσο. </a:t>
            </a:r>
            <a:endParaRPr b="0" lang="en-US" sz="2800" spc="-1" strike="noStrike">
              <a:solidFill>
                <a:srgbClr val="000000"/>
              </a:solidFill>
              <a:latin typeface="Arial"/>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Kernell, 1997</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Βραζιλία </a:t>
            </a:r>
            <a:endParaRPr b="0" lang="en-US" sz="4200" spc="-1" strike="noStrike">
              <a:solidFill>
                <a:srgbClr val="660033"/>
              </a:solidFill>
              <a:latin typeface="Times New Roman"/>
            </a:endParaRPr>
          </a:p>
        </p:txBody>
      </p:sp>
      <p:pic>
        <p:nvPicPr>
          <p:cNvPr id="122" name="Picture 2" descr=""/>
          <p:cNvPicPr/>
          <p:nvPr/>
        </p:nvPicPr>
        <p:blipFill>
          <a:blip r:embed="rId1"/>
          <a:stretch/>
        </p:blipFill>
        <p:spPr>
          <a:xfrm>
            <a:off x="1905120" y="1525680"/>
            <a:ext cx="5159160" cy="525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8T06:47:33Z</dcterms:created>
  <dc:creator>pc</dc:creator>
  <dc:description/>
  <dc:language>en-US</dc:language>
  <cp:lastModifiedBy>EPIMELEIA</cp:lastModifiedBy>
  <dcterms:modified xsi:type="dcterms:W3CDTF">2013-09-24T12:37:32Z</dcterms:modified>
  <cp:revision>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